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C20-208C-4FDD-8509-F6AF6E72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6D4-8212-4A48-B196-4A7AA571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069-63F2-4740-92D0-53AF2BB2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EB8-D5EB-45C9-89EA-011D9B55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97E38-93A5-46CC-8086-99C304FF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32E28-D725-44E4-AF1F-3F002F5C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A1458-5305-40ED-B0D3-FDF2D087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E0F16-FBEA-4595-9588-17285619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34432-7963-4861-BED9-132A3AB2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71B18-EBE4-44F5-8102-B6CCD98E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BB2BC-04CA-44C1-95F1-BD197CA7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636-28A1-4C52-B521-CC7D30D0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59DFB-2F74-4732-AF2D-E60976DA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B76BA-31A1-4D3B-A161-129B1056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3BD37-96CF-4958-B0A2-D2FED73D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6B71C-03A0-428D-8CB1-99A9C029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E06AA-0629-403D-92B8-CD257541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093E0-F40D-4F15-94A8-589234B6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857E4-BE66-475B-9D6E-74ADAF28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9DE3E-8B0A-4833-A095-F11FD062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740FE-A830-4BEE-AAF2-58370E6E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23231-1794-4780-B0F7-15A1E6B5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54C-7468-4C84-A1B7-C1D8F6B4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FEBAC-3586-4FB0-B383-E10D959F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3A50F-727F-472E-AD4F-0620DA07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E6556-1B49-4814-8624-79FD82BD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11716-F791-4801-8F02-771B411D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E76ED-549D-4A0C-914C-9C2894EB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A1B30-ED9E-463E-9AF8-23809C04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3F99C-EB5F-446A-8FB4-A4B29CBE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D4376-7770-4A08-8DB3-7F6C2EDB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AB04D-6FAB-472A-B093-FF2DC745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53C6F-B0A7-4A72-A190-EF210346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C2F5-E1BB-47D0-933F-AB6D5498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335088-B2E3-4979-B22A-62EADE0F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97C75-E5A9-4B84-88A4-DB11E561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6FA4D7-B215-48F8-A435-EBC6B8F5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7BAD4C-8B45-4D38-8090-CAD27F45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0DF92-A1F1-48B3-9B24-7A49B4F2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3597B1-B3B7-450B-9339-807D84C9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C3E244-B589-48F6-9BD1-4F247C66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EA135F-EC24-4326-A0A0-AF091F1D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A2B8C-ABE7-4D7A-B1CE-BD0681F1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EBD9C-AAA9-46F8-94F4-8DF630FF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C2E-F124-44B7-976E-652EE6DB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0BC8E-E676-40F5-A7DD-98BA2836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BB0FD-9F19-4E88-B24C-7E11B43E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5A2B1-82D7-455B-8033-9C78F62B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323BE-5973-41B6-8647-A0AD979D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4B0E2-0DDD-4308-A65E-9F7EC41F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F26E7-49A6-467B-9D63-3D829333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6F00B-46B1-4DFA-9EFA-046673EC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F760A-962E-457F-B16B-A445E41F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5B094-78E3-4B41-986F-3D782A89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3C30F-9054-4CCD-8D19-527CB8A3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759-E11E-45CA-A11A-94A4D246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C8E40-A705-40D8-BCBE-F9AC9274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00B34-FDD1-4291-9982-0BA10BE2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A00C27-1DCC-4639-A2E7-919416C7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B6E0E-7719-47F5-B97A-75885DB9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447207-AB52-4B51-BB21-98BC94F5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77223-A94B-4809-A648-4BF1FFB7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301E89-38F6-478A-9286-450A8F46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FF15E-B66C-4455-BDAD-C6CF008F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7F783-492B-4B41-B763-92E34709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A0D1FA-A29A-4615-A7BE-8DF8AE4F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E3B-FB63-447B-8DC6-533A456C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3BC5E-FDF3-4B40-B6C2-3CDE5370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A88958-37AC-4B70-91DB-664D75B6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DCA427-8BF2-4124-8FCA-5FA6F033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33350-942A-4E48-B313-B09E4204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674E5-8BCF-47E3-94DB-FADAD6BD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B46DF-7D51-43BA-8388-19ABB901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868F4-D171-4B1D-86B3-9AA945CE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BAC89-3CC5-479C-968C-EF796D97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40FF9-F362-45EE-AEE3-DF87477E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E0710-10EF-464F-8B68-A6AC1EEC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524-7D2E-448D-8156-027A26B6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FC331-50AD-460A-8FCA-23DE984A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58790-F74F-49B4-88B0-3F8818DD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E80A0-8C26-49DD-817F-B6BD4CCF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6E2F1-9BC8-4B1A-9421-E88B9DED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491BA-F1DE-47A4-B4C0-959F6DBC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346-819D-44AE-8C53-D0334CDA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8646-E15F-4143-A9D5-2EECEA3DCEF4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7196-3650-47EA-BF9B-FC9DEF4C6B28}" type="slidenum"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1AE9-EFB3-46CE-A0B2-1E3A6DFA19D0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BD90-8529-447D-90F0-0D83B278A92A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EF7A-FFBF-4B6D-ADB1-0A8633ADAB5D}" type="slidenum">
              <a:rPr b="1" lang="en-A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72EF-FAFF-4EEB-9417-25EC9C582947}" type="slidenum"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1BA6-9657-4C04-933C-CFACC4CE17AE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oardofstudies.nsw.edu.au/syllabus_hsc/glossary_keywords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357280" y="328608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TEP 388 - DESIGNING ASSESSMENT TASK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TextBox 3"/>
          <p:cNvSpPr/>
          <p:nvPr/>
        </p:nvSpPr>
        <p:spPr>
          <a:xfrm>
            <a:off x="214200" y="6215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Clarify type of assessment activity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is will be influenced by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Right Arrow 3"/>
          <p:cNvSpPr/>
          <p:nvPr/>
        </p:nvSpPr>
        <p:spPr>
          <a:xfrm>
            <a:off x="1071720" y="2786040"/>
            <a:ext cx="2286000" cy="10000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e0cba3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3714840" y="2857680"/>
            <a:ext cx="4643280" cy="253332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The nature of the outcomes selec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The syllabus components being assess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The intellectual processes targeted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Does the outcome require students to ‘discuss’, ‘analyse’, ‘evaluate’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The context of the task within the wider assessment progra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Describe the context of the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at prior learning should the students hav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at are the prerequisite skills/knowledge for completing this task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at class learning will be required to support students in working towards this assessment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at resources will be require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oes the task need to be scaffolde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oes the task require a risk assessment? (i.e. Fieldwork activities?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Prepare the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Check that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Allows each student to demonstrate their level of achieveme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The instructions are clea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The language level is appropria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The level of difficulty is appropria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The tasks = the time allocati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Is the task valid, reliable, fair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Key focus: Ensuring that the task is free from bias, assesses what you want to assess and gives accurate information on each student’s achievement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700" spc="-1" strike="noStrike">
                <a:solidFill>
                  <a:srgbClr val="000000"/>
                </a:solidFill>
                <a:latin typeface="Tw Cen MT"/>
              </a:rPr>
              <a:t>Validity</a:t>
            </a:r>
            <a:r>
              <a:rPr b="0" i="1" lang="en-AU" sz="2700" spc="-1" strike="noStrike">
                <a:solidFill>
                  <a:srgbClr val="000000"/>
                </a:solidFill>
                <a:latin typeface="Tw Cen MT"/>
              </a:rPr>
              <a:t> - Will the task measure what you want it to?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700" spc="-1" strike="noStrike">
                <a:solidFill>
                  <a:srgbClr val="000000"/>
                </a:solidFill>
                <a:latin typeface="Tw Cen MT"/>
              </a:rPr>
              <a:t>Reliability</a:t>
            </a:r>
            <a:r>
              <a:rPr b="0" i="1" lang="en-AU" sz="2700" spc="-1" strike="noStrike">
                <a:solidFill>
                  <a:srgbClr val="000000"/>
                </a:solidFill>
                <a:latin typeface="Tw Cen MT"/>
              </a:rPr>
              <a:t> – Will the task give consistent results?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700" spc="-1" strike="noStrike">
                <a:solidFill>
                  <a:srgbClr val="000000"/>
                </a:solidFill>
                <a:latin typeface="Tw Cen MT"/>
              </a:rPr>
              <a:t>Equity &amp; Fairness </a:t>
            </a:r>
            <a:r>
              <a:rPr b="0" i="1" lang="en-AU" sz="2700" spc="-1" strike="noStrike">
                <a:solidFill>
                  <a:srgbClr val="000000"/>
                </a:solidFill>
                <a:latin typeface="Tw Cen MT"/>
              </a:rPr>
              <a:t>– Does the task enable </a:t>
            </a:r>
            <a:r>
              <a:rPr b="0" i="1" lang="en-AU" sz="2700" spc="-1" strike="noStrike" u="sng">
                <a:solidFill>
                  <a:srgbClr val="000000"/>
                </a:solidFill>
                <a:uFillTx/>
                <a:latin typeface="Tw Cen MT"/>
              </a:rPr>
              <a:t>all students</a:t>
            </a:r>
            <a:r>
              <a:rPr b="0" i="1" lang="en-AU" sz="2700" spc="-1" strike="noStrike">
                <a:solidFill>
                  <a:srgbClr val="000000"/>
                </a:solidFill>
                <a:latin typeface="Tw Cen MT"/>
              </a:rPr>
              <a:t> to demonstrate what they know and can do?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Develop a marking schem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marking guidelines display the criteria for assessing the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achievement of outcomes and content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at the different levels and the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marks or range of marks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awarded at each leve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heck that students will be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appropriately rewarded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for the levels of knowledge, skills and understanding they demonstra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Effective marking schemes have...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lear criteria that distinguish between student respons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riteria that refer to aspects of performance that are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very important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onsistent outcomes, task instructions and rubri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rks awarded that reflect the quality of student respons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ccommodation for less predictable responses and harder to define characteristic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Trial mark your schem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rk a sample of students’ work firs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f necessary, adjust the scheme to cater for responses not covered by the marking  scheme but which demonstrate achievement of the outcome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Key feature: Marking scheme must accommodate how students demonstrate achievement of outcom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Mark the respons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rk the responses of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the whole group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en more than one class does the same task, consider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double or panel marking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to improve consistency and reliabili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Key feature: All responses must be marked consistently to ensure reliability of your testing instrumen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Provide feedbac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Research supports the idea that feedback is crucial to improve the effectiveness of teaching an learn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earning outcomes can be improved significantly through practice and quality feedb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Students need feedbac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at were the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strengths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weaknesses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of their performances as well as their mark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Provide feedback by annotating the marking schem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void referring to criteria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not outlined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in the marking schem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onsider providing comments before mark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What is assess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ssessing student achievement is the process of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w Cen MT"/>
              </a:rPr>
              <a:t>Identify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w Cen MT"/>
              </a:rPr>
              <a:t>Collecting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w Cen MT"/>
              </a:rPr>
              <a:t>Interpreting information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bout student performance in relation to the objectives and outcomes of a cour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Key questions to ask..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at do I want to asses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y am I assess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or whom am I assessing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How should I asses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b95b22"/>
                </a:solidFill>
                <a:latin typeface="Tw Cen MT"/>
              </a:rPr>
              <a:t>OUR REASONS FOR ASSESSING </a:t>
            </a:r>
            <a:br>
              <a:rPr sz="2900"/>
            </a:br>
            <a:r>
              <a:rPr b="1" lang="en-AU" sz="2900" spc="-1" strike="noStrike">
                <a:solidFill>
                  <a:srgbClr val="b95b22"/>
                </a:solidFill>
                <a:latin typeface="Tw Cen MT"/>
              </a:rPr>
              <a:t>AND THE AUDIENCE WE ARE TARGETING WILL SHAPE THE NATURE OF THE ASSESSMENT TAS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Reasons for assess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643120"/>
          <a:ext cx="7072200" cy="2200320"/>
        </p:xfrm>
        <a:graphic>
          <a:graphicData uri="http://schemas.openxmlformats.org/drawingml/2006/table">
            <a:tbl>
              <a:tblPr/>
              <a:tblGrid>
                <a:gridCol w="2663640"/>
                <a:gridCol w="44085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URPOS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ollect information about student understanding at the start of a unit of wor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ometimes pre-testing is appropri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ESSMEN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agnostic? E.g. Quiz, test, interview, oral presenta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D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he teacher – YOU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315" name="TextBox 4"/>
          <p:cNvSpPr/>
          <p:nvPr/>
        </p:nvSpPr>
        <p:spPr>
          <a:xfrm>
            <a:off x="1077840" y="1643040"/>
            <a:ext cx="2103840" cy="45972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w Cen MT"/>
              </a:rPr>
              <a:t>DIAGNOSTI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Reasons for assess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643120"/>
          <a:ext cx="7072200" cy="2205000"/>
        </p:xfrm>
        <a:graphic>
          <a:graphicData uri="http://schemas.openxmlformats.org/drawingml/2006/table">
            <a:tbl>
              <a:tblPr/>
              <a:tblGrid>
                <a:gridCol w="2663640"/>
                <a:gridCol w="44085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URPOS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hecking the ongoing progress of students in order to provide students with guidance and feedbac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t the direction for ongoing teaching and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ESSMEN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ormative – assessment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D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d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he students, the teacher and pa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de9"/>
                    </a:solidFill>
                  </a:tcPr>
                </a:tc>
              </a:tr>
            </a:tbl>
          </a:graphicData>
        </a:graphic>
      </p:graphicFrame>
      <p:sp>
        <p:nvSpPr>
          <p:cNvPr id="318" name="TextBox 4"/>
          <p:cNvSpPr/>
          <p:nvPr/>
        </p:nvSpPr>
        <p:spPr>
          <a:xfrm>
            <a:off x="1080720" y="1643040"/>
            <a:ext cx="1954800" cy="459720"/>
          </a:xfrm>
          <a:prstGeom prst="rect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w Cen MT"/>
              </a:rPr>
              <a:t>FORMA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Reasons for assess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71720" y="2643120"/>
          <a:ext cx="7072200" cy="2473560"/>
        </p:xfrm>
        <a:graphic>
          <a:graphicData uri="http://schemas.openxmlformats.org/drawingml/2006/table">
            <a:tbl>
              <a:tblPr/>
              <a:tblGrid>
                <a:gridCol w="2663640"/>
                <a:gridCol w="44085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URPOS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b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easure student achievement against the course outcomes or standards at the conclusion of a un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Assessment for monitoring and accountability purpo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b8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ESSMEN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2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UMMATIVE TASKS such as exit examinations and 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2d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D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he teacher, parents, students, B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</a:tr>
            </a:tbl>
          </a:graphicData>
        </a:graphic>
      </p:graphicFrame>
      <p:sp>
        <p:nvSpPr>
          <p:cNvPr id="321" name="TextBox 4"/>
          <p:cNvSpPr/>
          <p:nvPr/>
        </p:nvSpPr>
        <p:spPr>
          <a:xfrm>
            <a:off x="1030680" y="1643040"/>
            <a:ext cx="1909080" cy="459720"/>
          </a:xfrm>
          <a:prstGeom prst="rect">
            <a:avLst/>
          </a:prstGeom>
          <a:solidFill>
            <a:srgbClr val="c9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w Cen MT"/>
              </a:rPr>
              <a:t>Summa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TextBox 5"/>
          <p:cNvSpPr/>
          <p:nvPr/>
        </p:nvSpPr>
        <p:spPr>
          <a:xfrm>
            <a:off x="1105560" y="5643720"/>
            <a:ext cx="7227720" cy="368280"/>
          </a:xfrm>
          <a:prstGeom prst="rect">
            <a:avLst/>
          </a:prstGeom>
          <a:solidFill>
            <a:srgbClr val="e0c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w Cen MT"/>
              </a:rPr>
              <a:t>NOTE: THESE ASSESSMENT TYPES ARE NOT MUTUALLY EXCL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IMPORTANCE OF OUTCOMES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w Cen MT"/>
              </a:rPr>
              <a:t>Outcomes</a:t>
            </a: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 are explicit statements of knowledge, skills and understandings that students are expected to achiev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w Cen MT"/>
              </a:rPr>
              <a:t>Outcomes</a:t>
            </a: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 drive both teaching and assessment and should ALWAYS be the focus of what you d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Which ‘learn to’ (skills) and ‘learn about’ (content) outcomes are you testing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How do ‘learn to’ and ‘learn about’ outcomes link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PLANNING BACKWA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at you are trying to get the students to demonstrat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at are the outcomes to be assessed in this task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Highlight the BoS key terms. At which cognitive level do you expect students to be operating? (Bloom’s Taxonomy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A Glossary of Key Words (HSC) - Board of Studies NS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Develop indicators of achieve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How will I know that students have achieved the outcom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Right Arrow 3"/>
          <p:cNvSpPr/>
          <p:nvPr/>
        </p:nvSpPr>
        <p:spPr>
          <a:xfrm>
            <a:off x="1214280" y="2857680"/>
            <a:ext cx="2071800" cy="1000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3786120" y="2786040"/>
            <a:ext cx="4500720" cy="302004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w Cen MT"/>
              </a:rPr>
              <a:t>What evidence will I need to collect in order to determine whether  students have met this outcome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w Cen MT"/>
              </a:rPr>
              <a:t>Pay attention to BOS glossary, skills and knowledge requirement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05:37:16Z</dcterms:created>
  <dc:creator>Zarwood</dc:creator>
  <dc:description/>
  <dc:language>en-US</dc:language>
  <cp:lastModifiedBy>Aces User</cp:lastModifiedBy>
  <dcterms:modified xsi:type="dcterms:W3CDTF">2011-10-13T22:44:29Z</dcterms:modified>
  <cp:revision>69</cp:revision>
  <dc:subject/>
  <dc:title>DESIGNING ASSESSMENT TASKS</dc:title>
</cp:coreProperties>
</file>